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2193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640" y="744120"/>
            <a:ext cx="66150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9734-A4F1-40E2-AC43-E2546C3DC2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700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C2D5-2DB6-40EA-9FFC-E02B4CB382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700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ariéroví poradci na školách budou placeni z rozpočtu projektu (úvazek 0,1). Tam, kde mají kariérového poradce ze šablon, bude sjednána dohoda o spolupráci a DPP od okamžiku, kdy šablony II. Skončí. Každá škola to má jin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072D-C832-4606-99F4-5844F8301E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700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ŠIKK vznikla na platformě KAP. Podpora akčního plánování jako nástroje pro zlepšení řízení škol a podporu inkluze přispívá 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Calibri"/>
              </a:rPr>
              <a:t>k rozvoji funkčních partnerstv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4E0E-9719-4AFD-9C79-D4B6562BCF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700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ariéroví poradci na školách budou placeni z rozpočtu projektu (úvazek 0,1). Tam, kde mají kariérového poradce ze šablon, bude sjednána dohoda o spolupráci a DPP od okamžiku, kdy šablony II. Skončí. Každá škola to má jin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482B-A927-4472-87D2-1F83CD2FC4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700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03CC-E522-448E-B031-D214586C10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00" y="744480"/>
            <a:ext cx="66150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2F94-4AAB-47E9-9C04-8D9D001934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42A-DF4C-4640-A78D-E20B5DAB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EE6-AA76-4608-90D7-1805B368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EC3-7C2E-43FB-A893-A691E6AD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BDF-2596-409D-A3E5-0F26DDA2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E23-AF01-4306-9E06-BC4CC8F6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91A-0573-4D5B-9956-13C4B2FF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C56-60C6-44B8-BDC9-558C5E26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8D2-9D49-4B22-B582-F6259DB6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5F8-D443-4FD1-AB49-C39D917C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572-27FC-44D8-B6E7-736C71E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423-ED3C-4ACC-9A89-9AB517A0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AD5-83E1-4AFD-BC6E-FA42F4B2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8D12-CA9B-4793-A9B5-24F3A13114F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1066320"/>
            <a:ext cx="10287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Školská inkluzivní koncep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lomouckého kra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o období 2020-20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nline konference: „Strategickým plánováním ke kvalitním školá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března 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886200" y="15084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aoblený obdélník 1"/>
          <p:cNvSpPr/>
          <p:nvPr/>
        </p:nvSpPr>
        <p:spPr>
          <a:xfrm>
            <a:off x="914400" y="6019920"/>
            <a:ext cx="103633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ezentace se koná v rámci projektu „inkluzívní a kvalitní vzdělávání v územích se sociálně vyloučenými lokalitami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CZ.02.3.62/0.0/0.0/15_001/00005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62160" y="2743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kolská inkluzivní koncepce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lomouckého kraje 2020-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218960" y="1438200"/>
            <a:ext cx="967716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stupní inform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hodnocení a popis  oficiálních dokumentů, statistik, podkladů použitých k analýzá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hled různých jednání s odbornou veřejnost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fesní identifikace členů pracovní skup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216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kolská inkluzivní koncepce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lomouckého kraje 2020-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7720" y="1438200"/>
            <a:ext cx="1074420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nalytická část, statistické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krétní statistická data jsou především za školní rok 2018/19 a ze statistických zpráv, strategií a odborných studií z roku 201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IKK je vytvořen na dva roky pro období 2020 – 20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ŠIKK je živý dokument. Inkluze ve školství je však velmi dynamická, proto jsou už některé věci v současné době v inkluzivním školství jinak – legislativní změny, změny financování školství, jiný DZ ČR a OK, měnící se pojetí podpůrných opatření ve školách, vznik NPI ČR (sloučením NIDV a NÚV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e změnami pracujeme při realizaci a budeme pracovat při následném vyhodnocení ŠIK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kolská inkluzivní koncepce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lomouckého kraje 2020-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438200"/>
            <a:ext cx="998208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tupy z mapování stavu rovných příležitostí v úze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pracovány na základě analytické části a souboru statistických údajů s cílem, co nejlépe monitorovat a popsat situaci inkluzivního vzdělávání v O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 ohledem 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tanovení silných a slabých stránek vzdělávání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astavení funkčních cílů a opatření vedoucích ke zlepšení a stabilizaci vzdělávání žáků se SVP v O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6692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kolská inkluzivní koncepce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lomouckého kraje 2020-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tupy z mapování stavu rovných příležitostí v území v přehled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chod ze ZŠ na SŠ, předčasné odchody ze vzdělá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istent pedag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práce ve školství jako součást inkluzívních proces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ní poradenská pracovišt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ská poradenská za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mové vzdělá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daní a mimořádně nada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těže a přehlíd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621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kolská inkluzivní koncepce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lomouckého kraje 2020-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436760"/>
            <a:ext cx="105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finované cíle a opatření ŠIK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základě analýzy dokumentů, statistických dat, vlastních jednání a šetření jsou identifikovány jednotlivé problémové oblasti a pro každou z nich je formulován problém, odhalena příčina a stanovena žádoucí změna (cíl, opatření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ém není vždy nutně negativní. Může se jednat o téma, které je třeba z různých důvodů rozvíj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álním výsledkem je  přehledný soubor logických linek  z oblasti vzdělává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bdélník 1"/>
          <p:cNvSpPr/>
          <p:nvPr/>
        </p:nvSpPr>
        <p:spPr>
          <a:xfrm>
            <a:off x="838080" y="5562720"/>
            <a:ext cx="182880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délník 2"/>
          <p:cNvSpPr/>
          <p:nvPr/>
        </p:nvSpPr>
        <p:spPr>
          <a:xfrm>
            <a:off x="3657600" y="5562720"/>
            <a:ext cx="20224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délník 3"/>
          <p:cNvSpPr/>
          <p:nvPr/>
        </p:nvSpPr>
        <p:spPr>
          <a:xfrm>
            <a:off x="6664320" y="5562720"/>
            <a:ext cx="46101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íl - opatření  (žádoucí změn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Šipka doprava 4"/>
          <p:cNvSpPr/>
          <p:nvPr/>
        </p:nvSpPr>
        <p:spPr>
          <a:xfrm>
            <a:off x="2682720" y="571968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Šipka doprava 5"/>
          <p:cNvSpPr/>
          <p:nvPr/>
        </p:nvSpPr>
        <p:spPr>
          <a:xfrm>
            <a:off x="5683320" y="571968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625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kolská inkluzivní koncepce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lomouckého kraje 2020-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61760" y="1371600"/>
            <a:ext cx="10667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kční plán (navrhovaná čá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oubor cílů a opatření byl rozdělen do čtyř základních obecných prioritních oblastí tak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ecná priorita 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Rovný přístup k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ecný cíl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porovat rovnost v přístupu ke vzdělávání na všech úrovních škol, která umožní každému dítěti, žákovi a studentovi plně rozvinout své schopnosti ve společnosti svých vrstevníků a zajistit rovnost v přístupu ke vzdělávání na všech stupních škol a omezit vnější selektivitu vzdělávacíh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ecná priorita 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Školská poradenská zařízení (ŠPZ) a školní poradenská pracoviště (ŠP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ecný cíl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ýznamná podpora činnosti ŠPP na základních i středních škol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ecná priorita 3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Rozvoj potenciálu všech dětí, žáků, studen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ecný cíl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ýznamná podpora aktivit školních i mimoškolních institucí směřujících k rozvoji potenciálu všech dětí, žáků, studen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ecná priorita 4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Společný postup zřizovatelů škol a školských zaří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ecný cíl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odporovat strategické a akční plánování v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"/>
          <p:cNvSpPr/>
          <p:nvPr/>
        </p:nvSpPr>
        <p:spPr>
          <a:xfrm>
            <a:off x="380880" y="6049800"/>
            <a:ext cx="11430000" cy="5796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 jednotlivých aktivit či opatření jsou nastaveny předpoklady realizace, termíny, kritéria a zdroje financová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Realizace aktivit  ŠIK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ity projektu 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 s M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vazován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čních partnerství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území, která umožní/usnadní realizaci dalších aktivit v úze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ity projektů na implementaci 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mplementační pro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3371400"/>
            <a:ext cx="540864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mplementace krajského akčního plá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Olomouckém kra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440" y="4581000"/>
            <a:ext cx="53355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rtner: IKAP4OK, z.s. + 10 S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počet: cca 193 mil.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168600" y="3357720"/>
            <a:ext cx="556596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vné příležitosti ve vzděláv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Olomouckém kra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68600" y="4581000"/>
            <a:ext cx="55659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rtner: UP Olomouc (FT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počet: cca 31 mil.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6"/>
          <p:cNvSpPr/>
          <p:nvPr/>
        </p:nvSpPr>
        <p:spPr>
          <a:xfrm>
            <a:off x="609480" y="1417680"/>
            <a:ext cx="1112544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: Olomoucký k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11. 2020 – 30. 11. 2023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37 měsíc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střednictvím partnerů s finanční úča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7"/>
          <p:cNvSpPr/>
          <p:nvPr/>
        </p:nvSpPr>
        <p:spPr>
          <a:xfrm>
            <a:off x="1752480" y="2743200"/>
            <a:ext cx="2903760" cy="436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KAP OK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8"/>
          <p:cNvSpPr/>
          <p:nvPr/>
        </p:nvSpPr>
        <p:spPr>
          <a:xfrm>
            <a:off x="6816600" y="2743200"/>
            <a:ext cx="2327400" cy="469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PV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9"/>
          <p:cNvSpPr/>
          <p:nvPr/>
        </p:nvSpPr>
        <p:spPr>
          <a:xfrm>
            <a:off x="609480" y="5661000"/>
            <a:ext cx="11125440" cy="11304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 obou projektů bude zapojeno 58 středních škol, 82 ZŠ (včetně MŠ a SVČ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PP a SPC Olomouckého kraje, MVŠO a VŠLG, odborníci z praxe (zaměstnavatel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Klíčové aktivity pro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534680"/>
            <a:ext cx="53866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KAP OK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120" y="2174760"/>
            <a:ext cx="53866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A01 Řízen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A02 Podpora rozvoje gramot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A03 Podpora polytechnického vzděl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A04 Zvýšení kvality vzdělávání ve SŠ připravujíc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 výkonu regulované profese 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A05 Podpora kompetencí k podnikav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A06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ariérové poraden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A07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192360" y="1534680"/>
            <a:ext cx="53895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PV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92360" y="2174760"/>
            <a:ext cx="5389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A01 Řízen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A02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Podpora rovných příležitostí ve vzděl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A03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Prevence předčasných odchodů ze vzděl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A04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ariérové poradenství v odborném vzděl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álný bublinový popisek 1"/>
          <p:cNvSpPr/>
          <p:nvPr/>
        </p:nvSpPr>
        <p:spPr>
          <a:xfrm>
            <a:off x="6324480" y="5105520"/>
            <a:ext cx="5257800" cy="1660320"/>
          </a:xfrm>
          <a:prstGeom prst="wedgeEllipseCallout">
            <a:avLst>
              <a:gd name="adj1" fmla="val -59731"/>
              <a:gd name="adj2" fmla="val -7844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ická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97538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Krajské centrum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kariérového poradens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dpora kariérového poradenství prostřednictvím síťování a tvorby zázemí pro zvyšování kompetencí, výměnu zkušeností a metodické vedení kariérových, případně výchovných poradců na školách v kraji (včetně podpory práce s nadanými žák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dělávací čin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nzultační a poradenská činnost krajského cent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5 regionálních poradců v kraj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gr. Kateřina Petrov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tka-petrova@seznam.c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aoblený obdélník 1"/>
          <p:cNvSpPr/>
          <p:nvPr/>
        </p:nvSpPr>
        <p:spPr>
          <a:xfrm>
            <a:off x="8381880" y="4419720"/>
            <a:ext cx="3124440" cy="1716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římá podpo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80 KP na Z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6 KP na gymnázi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Krajský akční plán rozvoje vzdělá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roj pr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lepšení řízení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kol, hodnocení kvality vzdělávání a plánování strategických kroků vedoucích ke zvýšení kvality vzdělávací soustavy kraje i jednotlivých šk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roj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dpory inkluz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zdělává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zvoje funkčních partnerství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území, která umožní/usnadní realizaci dalších intervencí v území (inkluze, kvalita vzdělávání, spolupráce škol a trhu prá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ajské centrum prevenc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dčasných odchodů ze vzděl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mplexní preventivní a intervenční aktivity, které budou zaměřeny na žáka, jeho rodinu a škol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časné vyhledání žáků, kteří jsou předčasným odchodem ze školy potenciálně nejvíce ohroženi a další jejich podp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rajský metodik a metodici na pobočkách PP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zdělávací čin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ungování na základě stávající struktury pedagogicko-psychologické poradny 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olupráce s IPs ÚP Olomouckého kr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hDr. Edita Bosákov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edita.bosakova@upol.c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4"/>
          <p:cNvSpPr/>
          <p:nvPr/>
        </p:nvSpPr>
        <p:spPr>
          <a:xfrm>
            <a:off x="5410080" y="4724280"/>
            <a:ext cx="533412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olupráce celkově s 80 ZŠ a 58 S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íleně s 20 vybranými SŠ s učebními ob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ajské centrum kariérového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adenství v odborném vzděl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ariérové poradenství ve středním vzdělávání (zaměření na dvou a tříleté učební ob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dpora karierových poradců na vybraných 20 středních školách (učební ob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Úzká vazba na činnost centra prevence předčasných odchodů ze vzd. a P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rajský metodik a koordinátoři aktivit na pobočkách P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Adéla Štěpán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dela.stepankova02@upol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aoblený obdélník 1"/>
          <p:cNvSpPr/>
          <p:nvPr/>
        </p:nvSpPr>
        <p:spPr>
          <a:xfrm>
            <a:off x="8153280" y="4648320"/>
            <a:ext cx="2971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0 K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 vybraných S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 učebními ob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rovných příležitostí ve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onální centrum aplikovaných pohybový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račující aktivita z IKAP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trum poskytuje vzdělávání a podporu pedagogickým pracovníkům, jak pracovat s dítětem, žákem, studentem se smyslovým, tělesným, mentálním postižením a zdravotním oslabením, nemocí i sociálním znevýhodněním (SVP). Systém regionálních konzultant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a a aplikace Individuálního vzdělávacího plánu (IVP) pro aktivní zapojení do tělesné výchovy, dle individuálních schopností (ve spolupráci s PPP a SPC O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á zásoba kompenzačních pomůcek k zapůjč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vedení: Katedra APA, FTK UP, Mgr. Ondřej Ješina, Ph.D., ondrej.jesina@upol.c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hDr. Martin Laj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xlajzam@seznam.c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aoblený obdélník 1"/>
          <p:cNvSpPr/>
          <p:nvPr/>
        </p:nvSpPr>
        <p:spPr>
          <a:xfrm>
            <a:off x="6629400" y="4572000"/>
            <a:ext cx="464832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80 ZŠ a 58 S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lupracujících š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Žák s postižením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v pohybových programech na Z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Zástupný symbol pro obsah 3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731520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4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562200" cy="2673360"/>
          </a:xfrm>
          <a:prstGeom prst="rect">
            <a:avLst/>
          </a:prstGeom>
          <a:ln w="0">
            <a:noFill/>
          </a:ln>
        </p:spPr>
      </p:pic>
      <p:pic>
        <p:nvPicPr>
          <p:cNvPr id="122" name="Obrázek 1" descr=""/>
          <p:cNvPicPr/>
          <p:nvPr/>
        </p:nvPicPr>
        <p:blipFill>
          <a:blip r:embed="rId3"/>
          <a:stretch/>
        </p:blipFill>
        <p:spPr>
          <a:xfrm>
            <a:off x="1143000" y="2222640"/>
            <a:ext cx="236520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rázek 3" descr=""/>
          <p:cNvPicPr/>
          <p:nvPr/>
        </p:nvPicPr>
        <p:blipFill>
          <a:blip r:embed="rId1"/>
          <a:stretch/>
        </p:blipFill>
        <p:spPr>
          <a:xfrm>
            <a:off x="8915400" y="343080"/>
            <a:ext cx="2365200" cy="858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C APA a součas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599840"/>
            <a:ext cx="115063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entra  pohybové gramotnosti v inkluzívním vzděláv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Š polytechnická, Rooseveltova 79, Olomou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ní průmyslová škola Jeseník, Dukelská 1240, Jese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entra inkluzivního zájmového vzděláv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m dětí a mládeže Olomou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m dětí a mládeže Kojet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isko volného času „Duha“ Jese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aoblený obdélník 6"/>
          <p:cNvSpPr/>
          <p:nvPr/>
        </p:nvSpPr>
        <p:spPr>
          <a:xfrm>
            <a:off x="8686800" y="5562720"/>
            <a:ext cx="2925720" cy="97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www.apa.upol.cz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621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kolská inkluzivní koncepce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lomouckého kraje 2020-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23520"/>
            <a:ext cx="10515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IKK slouží jako informační materiál určený pro zřizovatele, školy a školská zařízení, pro zákonné zástupce, i širší veřejnost, které se činnost škol dotýk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ém nerovnosti je třeba řešit na všech úrovních – nejen změnou legislativy či naopak přímou pomocí jednotlivým školám, ale i na úrovni místní a krajské. Zřizovatelé škol mohou ovlivnit nastavení místní vzdělávací soustavy a to zejmé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)  z hlediska nastavení rovných příležitostí ke vzdělávání pro všechny děti a žá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 přijímání konkrétních opatření vedoucích ke snížení selektivnosti vzdělávací soustav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kolská inkluzivní koncepce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lomouckého kraje 2020-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ský úřad Olomouckého kraje zpracovává dlouhodobý záměr vzdělávání a rozvoje vzdělávací soustavy, ve kterém si stanovuje priority rozvo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kolská inkluzívní koncepce nabízí potenciál pro změnu strategického uvažování a plánování v oblasti společného vzdělá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tvorbě Krajského akčního plánu rozvoje vzdělávání a jednotlivých Místních akčních plánů v kraji lze díky ŠIKK lépe a rychleji formulovat opatření k řešení specifických problémů, které se v oblasti vzdělávání v kraji či jeho regionech vyskytuj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lektronická verze dokumentu ŠIK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Školská inkluzivní koncepce Olomouckého kraje pro období 2020-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NDr. Bronislava Vláči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ěcná manažerka projektu K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.vlacilova@olkraj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znik koncep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hodnutí Evropské komi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ika rovných příležitostí (MŠM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vize metodiky „Postupy KAP“  projektu 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ority Krajského akčního plánu rozvoje vzdělávání Olomouckého kraje na období 2019-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5960" y="3045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S pro rovné příležit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stupci RT 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O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stupci škol běžných i speciáln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stupci poskytovatelů poradenských služeb, neziskových a zájmových organizací, zástupci ÚP, ASZ, sociálního odboru, ČŠI,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S má celkem 19 čle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10591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kument vznikl v průběhu roku 2019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chválený a přijat byl jako oficiální dokument dn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9. 12. 2019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imární snaha byla vytvořit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žitečný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dokument,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který kopíruje současný stav inkluz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a snaží se upozornit na možnosti jejího 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aktického rozvo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ncepce chce podporovat instituce, školy a především PP tak, aby většina podpory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měřovala k žáků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IKK se zabývá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šemi žáky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 speciálními vzdělávacími potřebami, především žák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zdravotním znevýhodně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odlišného sociokulturního prostřed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dané a mimořádně nad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áky cizince a žáky s odlišným mateřským jazy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3886200" y="15084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Školská inkluzivní koncepce Olomouckého kraje 2020-2021 (ŠIK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19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Školská inkluzivní koncepc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Olomouckého kraje 2020-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600200"/>
            <a:ext cx="1112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orba (mapování, sběr d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covní skupina pro rovné příležitosti – pravidelná jednání, konzult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ematická práce s odbornou veřejností, jednání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tupci škol běžného vzdělávacího proudu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tupci škol zřízených pro žáky definované v § 16 odst. 9 Š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stické údaje a informace z krajských statistik, podkladů MŠMT, NÚV, Č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ouhodobé a střednědobé plány a strategie, tematické zprávy, koncep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10820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vorba (text dokumentu a akční plá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tenzivní spolupráce se člen PS pro rovné příležitosti, speciálně s odborem sociálních věcí KÚ OK a s Úřadem práce 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ipomínkování a konzultace ze stran zástupců hodnotící komise koncepce (odborné platformy společného vzdělávání v projektu APIV B realizovaném NÚV Praha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gr. Klára Šimáčková Laurenčíková, předsedkyně České odborné společnosti pro inkluzivní vzděl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edDr. Pavlína Baslerová, Ph.D., Ústav speciálně pedagogických studií, PdF, UP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886200" y="15084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Školská inkluzivní koncep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Olomouckého kraje 2020-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10744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veřejnění ŠIKK po schvál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ebové stránky OŠ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ebové stránky projektu K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elektronické podobě zaslán všem školám Olomouckého kraje (školy §§, SŠ, VO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bez ohledu na zřizovate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elektronické podobě zaslán všem RT MAP v 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dstavena na jednání Regionální stálé konference v 12/20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dstavena na setkání ředitelů škol zřízených dle § 16. odst. 9 ŠZ (všech zřizovatelů) v 02/20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3886200" y="15084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Školská inkluzivní koncep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Olomouckého kraje 2020-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9982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sah dokumentu ŠIK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stupní zhodnocení stav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acovní skup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nalytická čá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tatistické úd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tupy z mapování stavu rovných příležitostí v územ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íle a opatř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kční plán (návrhová čá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lo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3886200" y="15084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kolská inkluzivní koncep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lomouckého kraje 2020-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1:19:01Z</dcterms:created>
  <dc:creator>Jana</dc:creator>
  <dc:description/>
  <dc:language>en-US</dc:language>
  <cp:lastModifiedBy>Vláčilová Bronislava</cp:lastModifiedBy>
  <cp:lastPrinted>2019-11-08T11:35:56Z</cp:lastPrinted>
  <dcterms:modified xsi:type="dcterms:W3CDTF">2021-02-24T14:30:56Z</dcterms:modified>
  <cp:revision>140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PSDescription">
    <vt:lpwstr>Šablona prezentace s logem - Č</vt:lpwstr>
  </property>
  <property fmtid="{D5CDD505-2E9C-101B-9397-08002B2CF9AE}" pid="3" name="Status">
    <vt:lpwstr/>
  </property>
</Properties>
</file>